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080-907C-4A03-BE7E-1BCD669E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63B-D985-42EF-963A-AFCD725A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791-BBBE-419D-BA41-99CBAE2D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0CD-8DC9-408A-9BFB-B5E3CCF0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808-0D13-4787-8C18-099FF30F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877-F0B3-43B1-99AF-E6754F94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42B-6338-4BF7-B95B-D6E1E181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A09-AC65-4CE6-8D4E-4207CF2D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EB7-8AF5-4C25-AC57-FB9CDD70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34F-ED86-443B-A175-DD398706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773-AB59-4A14-A7F1-EB87B57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AE0-9784-4441-99EF-AC4E0DB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1E1E-9201-4F62-B5FA-2198599C7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3765600"/>
          <a:ext cx="38098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65600"/>
                    <a:ext cx="3809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143000" y="1752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352680" y="2971800"/>
            <a:ext cx="234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0804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90200" y="1905120"/>
            <a:ext cx="2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5440" y="190512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90512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356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190512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895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36640" y="18288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5104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18080" y="1905120"/>
            <a:ext cx="3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8476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3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216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0884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8120" y="2908440"/>
            <a:ext cx="35049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05740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057400"/>
            <a:ext cx="7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05740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06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50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38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3940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3076560"/>
            <a:ext cx="29718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867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1981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220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2920" y="19810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19810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1981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171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0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2057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92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89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406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96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37227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004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22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0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2057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025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2914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81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536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05740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292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13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15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50840" y="2025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3040" y="205740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4320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0800" y="2057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057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85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296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61280" y="2057400"/>
            <a:ext cx="3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2304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57480" y="3048120"/>
            <a:ext cx="3189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57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344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18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709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55960" y="205740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205740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057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326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205740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35812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1T15:51:26Z</dcterms:modified>
  <cp:revision>20</cp:revision>
  <dc:subject/>
  <dc:title>Rivet</dc:title>
</cp:coreProperties>
</file>